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6.png" ContentType="image/png"/>
  <Override PartName="/ppt/media/image3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7.png" ContentType="image/png"/>
  <Override PartName="/ppt/media/image22.jpeg" ContentType="image/jpeg"/>
  <Override PartName="/ppt/media/image14.jpeg" ContentType="image/jpeg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82EF-84DF-41C9-92E5-730662E5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CBAA-E6B5-41B0-B89C-C1FB248D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FD96-03D8-4F9F-A16F-7FA37A4A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89D-451A-4232-AF26-4DB5A348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696B-D231-4C62-BA19-341462CE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70DC-1F91-4B18-B34C-2CDE0949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0FF9-61CD-4E2B-9256-F7CB0C59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8203-3BDE-427C-BE6D-32D7A1A3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A449-077B-41A8-A4E2-5E163538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7F9E-80D8-4F29-A851-7BFC6824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246A-A4C0-4DAC-B0B7-72C2BFCD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A669-24CA-4943-A73E-D905F608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A4F9-84AF-4BC2-9F58-B96B2CB4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9333-0C1A-4808-B295-1FCCD159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4A7C-E2A6-4129-B2C4-1CEA7B73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2674-D98B-47B8-8AEB-0208DE1C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8A0C-7E87-4B55-A987-C480CD00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4B14B-D79B-4BB7-BAE1-B91CFC6E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1AA9D-3A73-46A9-865E-35EB3C68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63F06-53B6-41ED-ADB5-333CE0E5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A7BA4-86C0-49C5-898E-DDC65788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C9FB8-5BC7-491A-9A4B-D1C1B780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4935-E312-42CF-9568-2121DFF6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40354-D72C-4186-A3F8-A34F8572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D559D-EF6F-4223-B095-342961C9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F74F1-6649-43DB-AB6B-8C6BE3AF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F61A7-D5B8-498E-89B4-B8C44558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88A5F-B501-4D36-90E7-101F16F0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D2A53-9E10-404F-9BD8-5AED1A3B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631E0-C5AF-41F5-85B8-81A8F9EE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29934-787B-4774-A2F3-A16052E5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E2EAD-C7F0-4B64-B040-E1A49514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D8A89-21F0-4040-A012-70BD7924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790-7FE9-4AB1-B882-0467BCFA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3195D-1766-4B7C-B1C5-77B1E8D1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EF0EA-A92D-4C6D-9E2A-43DB46B1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4F442-0775-4CA4-95FD-3871057F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B93CF-0207-41DD-A0F7-074104A6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184A1-303E-4A9D-8A58-4B829650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4349F-5FAD-4839-813E-49530D0F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54330-D60C-4EBD-BF24-D31C4BBA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313B5-5E38-4D79-A34D-1FF37290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68864-830F-4C95-B7D8-73663E11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78119-5FF9-4A13-8283-489E80D8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47B-0B9E-46EF-B088-84866920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121F9-414F-4F4C-96F1-2B05D046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11375-456F-46E9-97AB-7D7E570A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AC465-5BC5-4BF4-BED1-88903396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1B7CF-F178-49F1-A519-31FF246D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B2BA7-F044-4434-BBD0-E12B33B2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1219F-7C01-4A97-AB79-8398E322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B570A-6A46-4D77-B3A8-45DE921E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5554D-9E8C-4757-9DA6-84CD60CD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913D2-B66A-479C-ACD8-B2BFEAFB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CB4BE-D677-4F69-ADAC-DD4B1740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E591-068D-4149-A9C1-82DF3E51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BA3E6-21BA-474B-913A-92D54045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235A1-662C-4C17-A373-E1023292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CACD7-29D8-49C7-924A-255508CA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B9C95-E4AB-420B-A60A-9B6A42CD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3BCD2-6A09-42E8-8B55-309704B8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AD7C1-FBC0-4107-8083-B2E0035C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0B1FA-73D3-44C8-AE16-283BC761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EA671-40A7-4467-99AF-6C39559F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4E026-610C-444E-9304-89A94F13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F6375-AEA7-4266-9F5C-395DD0F3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47C2-57A5-4FE4-8250-ED27D037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F7E6E-CF42-4162-A80D-FBE910EC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BB10C-21A6-4126-9075-B1346BCA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2C7B7-4E90-4BB0-B4CB-C95118FB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1DB3-F0D6-43E4-82DA-AA1064AF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882-05E5-45C2-ACD4-4B7B2544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图片 7" descr=""/>
            <p:cNvPicPr/>
            <p:nvPr/>
          </p:nvPicPr>
          <p:blipFill>
            <a:blip r:embed="rId2"/>
            <a:srcRect l="0" t="0" r="0" b="3957"/>
            <a:stretch/>
          </p:blipFill>
          <p:spPr>
            <a:xfrm>
              <a:off x="0" y="277560"/>
              <a:ext cx="9144000" cy="65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矩形 8"/>
            <p:cNvSpPr/>
            <p:nvPr/>
          </p:nvSpPr>
          <p:spPr>
            <a:xfrm>
              <a:off x="0" y="0"/>
              <a:ext cx="9144000" cy="2020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8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44600" indent="4698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0BD0-9F8E-4313-A967-4F3D53E35FBE}" type="datetime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C679-6CF0-4548-B4FB-4C9BFF3E549F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矩形 7"/>
            <p:cNvSpPr/>
            <p:nvPr/>
          </p:nvSpPr>
          <p:spPr>
            <a:xfrm>
              <a:off x="0" y="0"/>
              <a:ext cx="9144000" cy="2020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pic>
          <p:nvPicPr>
            <p:cNvPr id="47" name="图片 1" descr=""/>
            <p:cNvPicPr/>
            <p:nvPr/>
          </p:nvPicPr>
          <p:blipFill>
            <a:blip r:embed="rId2"/>
            <a:srcRect l="0" t="0" r="0" b="3957"/>
            <a:stretch/>
          </p:blipFill>
          <p:spPr>
            <a:xfrm>
              <a:off x="0" y="277560"/>
              <a:ext cx="9144000" cy="658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8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44600" indent="4698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9EF6-051D-459C-A747-E407FC92A463}" type="datetime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BF4C-6A42-44EC-B2D3-1F8F4B2937C7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0" name="图片 7" descr=""/>
            <p:cNvPicPr/>
            <p:nvPr/>
          </p:nvPicPr>
          <p:blipFill>
            <a:blip r:embed="rId2"/>
            <a:srcRect l="0" t="0" r="0" b="3957"/>
            <a:stretch/>
          </p:blipFill>
          <p:spPr>
            <a:xfrm>
              <a:off x="0" y="277560"/>
              <a:ext cx="9144000" cy="65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矩形 8"/>
            <p:cNvSpPr/>
            <p:nvPr/>
          </p:nvSpPr>
          <p:spPr>
            <a:xfrm>
              <a:off x="0" y="0"/>
              <a:ext cx="9144000" cy="2020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92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直接连接符 6"/>
          <p:cNvSpPr/>
          <p:nvPr/>
        </p:nvSpPr>
        <p:spPr>
          <a:xfrm>
            <a:off x="5288040" y="3884760"/>
            <a:ext cx="2185920" cy="1963440"/>
          </a:xfrm>
          <a:prstGeom prst="line">
            <a:avLst/>
          </a:prstGeom>
          <a:ln w="6480">
            <a:solidFill>
              <a:srgbClr val="dbcb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直接连接符 7"/>
          <p:cNvSpPr/>
          <p:nvPr/>
        </p:nvSpPr>
        <p:spPr>
          <a:xfrm>
            <a:off x="6199200" y="4373640"/>
            <a:ext cx="2743200" cy="2462040"/>
          </a:xfrm>
          <a:prstGeom prst="line">
            <a:avLst/>
          </a:prstGeom>
          <a:ln w="6480">
            <a:solidFill>
              <a:srgbClr val="e2b0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直接连接符 8"/>
          <p:cNvSpPr/>
          <p:nvPr/>
        </p:nvSpPr>
        <p:spPr>
          <a:xfrm>
            <a:off x="6848640" y="4668840"/>
            <a:ext cx="1935000" cy="1738440"/>
          </a:xfrm>
          <a:prstGeom prst="line">
            <a:avLst/>
          </a:prstGeom>
          <a:ln w="6480">
            <a:solidFill>
              <a:srgbClr val="fdc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直接连接符 9"/>
          <p:cNvSpPr/>
          <p:nvPr/>
        </p:nvSpPr>
        <p:spPr>
          <a:xfrm>
            <a:off x="34920" y="27000"/>
            <a:ext cx="2185920" cy="1963800"/>
          </a:xfrm>
          <a:prstGeom prst="line">
            <a:avLst/>
          </a:prstGeom>
          <a:ln w="6480">
            <a:solidFill>
              <a:srgbClr val="dbcb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直接连接符 10"/>
          <p:cNvSpPr/>
          <p:nvPr/>
        </p:nvSpPr>
        <p:spPr>
          <a:xfrm>
            <a:off x="946080" y="517680"/>
            <a:ext cx="1703520" cy="1528560"/>
          </a:xfrm>
          <a:prstGeom prst="line">
            <a:avLst/>
          </a:prstGeom>
          <a:ln w="6480">
            <a:solidFill>
              <a:srgbClr val="e2b0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直接连接符 11"/>
          <p:cNvSpPr/>
          <p:nvPr/>
        </p:nvSpPr>
        <p:spPr>
          <a:xfrm>
            <a:off x="1628640" y="811080"/>
            <a:ext cx="1935360" cy="1739880"/>
          </a:xfrm>
          <a:prstGeom prst="line">
            <a:avLst/>
          </a:prstGeom>
          <a:ln w="6480">
            <a:solidFill>
              <a:srgbClr val="fdc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8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44600" indent="4698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8158-FFCC-4B53-B901-D5BD3DB6F80C}" type="datetime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D7FA-58D0-4950-8FFD-0146B673C49A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1" name="图片 7" descr=""/>
            <p:cNvPicPr/>
            <p:nvPr/>
          </p:nvPicPr>
          <p:blipFill>
            <a:blip r:embed="rId2"/>
            <a:srcRect l="0" t="0" r="0" b="3957"/>
            <a:stretch/>
          </p:blipFill>
          <p:spPr>
            <a:xfrm>
              <a:off x="0" y="277560"/>
              <a:ext cx="9144000" cy="65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矩形 8"/>
            <p:cNvSpPr/>
            <p:nvPr/>
          </p:nvSpPr>
          <p:spPr>
            <a:xfrm>
              <a:off x="0" y="0"/>
              <a:ext cx="9144000" cy="2020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矩形 5"/>
          <p:cNvSpPr/>
          <p:nvPr/>
        </p:nvSpPr>
        <p:spPr>
          <a:xfrm>
            <a:off x="1998720" y="2857680"/>
            <a:ext cx="876240" cy="876240"/>
          </a:xfrm>
          <a:prstGeom prst="rect">
            <a:avLst/>
          </a:prstGeom>
          <a:solidFill>
            <a:srgbClr val="a67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矩形 6"/>
          <p:cNvSpPr/>
          <p:nvPr/>
        </p:nvSpPr>
        <p:spPr>
          <a:xfrm>
            <a:off x="3065400" y="2857680"/>
            <a:ext cx="876240" cy="876240"/>
          </a:xfrm>
          <a:prstGeom prst="rect">
            <a:avLst/>
          </a:prstGeom>
          <a:solidFill>
            <a:srgbClr val="a67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矩形 7"/>
          <p:cNvSpPr/>
          <p:nvPr/>
        </p:nvSpPr>
        <p:spPr>
          <a:xfrm>
            <a:off x="4132440" y="2857680"/>
            <a:ext cx="876240" cy="876240"/>
          </a:xfrm>
          <a:prstGeom prst="rect">
            <a:avLst/>
          </a:prstGeom>
          <a:solidFill>
            <a:srgbClr val="a67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矩形 8"/>
          <p:cNvSpPr/>
          <p:nvPr/>
        </p:nvSpPr>
        <p:spPr>
          <a:xfrm>
            <a:off x="5199120" y="2857680"/>
            <a:ext cx="876240" cy="876240"/>
          </a:xfrm>
          <a:prstGeom prst="rect">
            <a:avLst/>
          </a:prstGeom>
          <a:solidFill>
            <a:srgbClr val="a67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矩形 9"/>
          <p:cNvSpPr/>
          <p:nvPr/>
        </p:nvSpPr>
        <p:spPr>
          <a:xfrm>
            <a:off x="6265800" y="2857680"/>
            <a:ext cx="876240" cy="876240"/>
          </a:xfrm>
          <a:prstGeom prst="rect">
            <a:avLst/>
          </a:prstGeom>
          <a:solidFill>
            <a:srgbClr val="a67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矩形 10"/>
          <p:cNvSpPr/>
          <p:nvPr/>
        </p:nvSpPr>
        <p:spPr>
          <a:xfrm>
            <a:off x="1998720" y="2857680"/>
            <a:ext cx="8762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矩形 11"/>
          <p:cNvSpPr/>
          <p:nvPr/>
        </p:nvSpPr>
        <p:spPr>
          <a:xfrm>
            <a:off x="4132440" y="2857680"/>
            <a:ext cx="8762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>
            <a:off x="6265800" y="2844720"/>
            <a:ext cx="8762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矩形 13"/>
          <p:cNvSpPr/>
          <p:nvPr/>
        </p:nvSpPr>
        <p:spPr>
          <a:xfrm>
            <a:off x="3065400" y="2857680"/>
            <a:ext cx="8762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矩形 14"/>
          <p:cNvSpPr/>
          <p:nvPr/>
        </p:nvSpPr>
        <p:spPr>
          <a:xfrm>
            <a:off x="5199120" y="2857680"/>
            <a:ext cx="8762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8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44600" indent="4698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B3FF-BF7F-4051-B1FC-9C8498740485}" type="datetime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818D-823B-4A51-A66E-20D1896F9FB9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合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6" name="图片 7" descr=""/>
            <p:cNvPicPr/>
            <p:nvPr/>
          </p:nvPicPr>
          <p:blipFill>
            <a:blip r:embed="rId2"/>
            <a:srcRect l="0" t="0" r="0" b="3957"/>
            <a:stretch/>
          </p:blipFill>
          <p:spPr>
            <a:xfrm>
              <a:off x="0" y="277560"/>
              <a:ext cx="9144000" cy="65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矩形 8"/>
            <p:cNvSpPr/>
            <p:nvPr/>
          </p:nvSpPr>
          <p:spPr>
            <a:xfrm>
              <a:off x="0" y="0"/>
              <a:ext cx="9144000" cy="2020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8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矩形 7"/>
          <p:cNvSpPr/>
          <p:nvPr/>
        </p:nvSpPr>
        <p:spPr>
          <a:xfrm rot="496800">
            <a:off x="3238560" y="2332080"/>
            <a:ext cx="3419280" cy="376560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" name="矩形 8"/>
          <p:cNvSpPr/>
          <p:nvPr/>
        </p:nvSpPr>
        <p:spPr>
          <a:xfrm rot="880800">
            <a:off x="3238200" y="2331720"/>
            <a:ext cx="3419280" cy="3765600"/>
          </a:xfrm>
          <a:prstGeom prst="rect">
            <a:avLst/>
          </a:prstGeom>
          <a:solidFill>
            <a:srgbClr val="ffffff"/>
          </a:solidFill>
          <a:ln w="3240">
            <a:solidFill>
              <a:srgbClr val="d1d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8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44600" indent="4698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2889-61D0-4AEA-BF9F-43F7728FC5AB}" type="datetime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4D2E-BEB2-49E7-A47C-47A3A4B32365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8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44600" indent="4698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69C4-A28A-447F-BCE7-08F472538B91}" type="datetime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2595-500E-4667-AAEA-ACB10691E3F5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宋体"/>
              </a:rPr>
              <a:t>Lesson32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Arial"/>
                <a:ea typeface="宋体"/>
              </a:rPr>
              <a:t>I Can’t Wait for Winter.</a:t>
            </a:r>
            <a:endParaRPr b="0" lang="en-US" sz="54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2135160" y="2857680"/>
            <a:ext cx="6168960" cy="13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a5af"/>
                </a:solidFill>
                <a:latin typeface="黑体"/>
              </a:rPr>
              <a:t>\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225360" y="530280"/>
            <a:ext cx="8734320" cy="61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②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他正在从事癌症研究。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H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e is doing some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______    ____  cancer.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" name="文本框 1"/>
          <p:cNvSpPr/>
          <p:nvPr/>
        </p:nvSpPr>
        <p:spPr>
          <a:xfrm>
            <a:off x="754920" y="2133720"/>
            <a:ext cx="4862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微软雅黑"/>
              </a:rPr>
              <a:t>research  on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 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24" name="图片 2" descr="u=4282804724,2872399897&amp;fm=21&amp;gp=0[1]"/>
          <p:cNvPicPr/>
          <p:nvPr/>
        </p:nvPicPr>
        <p:blipFill>
          <a:blip r:embed="rId1"/>
          <a:stretch/>
        </p:blipFill>
        <p:spPr>
          <a:xfrm>
            <a:off x="1562040" y="3608280"/>
            <a:ext cx="65692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65240" y="337680"/>
            <a:ext cx="8781840" cy="60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2.ice n.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冰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(1)ice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当“冰”讲时是不可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数名词，表示一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数块冰常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用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a piece/pieces of ice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(2)ice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当“冰冻的甜食”讲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时是可数名词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01600" y="328320"/>
            <a:ext cx="8710560" cy="60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</a:rPr>
              <a:t>◆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There is some </a:t>
            </a:r>
            <a:r>
              <a:rPr b="1" lang="zh-CN" sz="5400" spc="-1" strike="noStrike" u="sng">
                <a:solidFill>
                  <a:srgbClr val="002060"/>
                </a:solidFill>
                <a:uFillTx/>
                <a:latin typeface="Arial"/>
              </a:rPr>
              <a:t>ice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on the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window.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7030a0"/>
                </a:solidFill>
                <a:latin typeface="Arial"/>
              </a:rPr>
              <a:t>窗子上有一些冰。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27" name="图片 1" descr="u=1772931801,2903526685&amp;fm=21&amp;gp=0[1]"/>
          <p:cNvPicPr/>
          <p:nvPr/>
        </p:nvPicPr>
        <p:blipFill>
          <a:blip r:embed="rId1"/>
          <a:stretch/>
        </p:blipFill>
        <p:spPr>
          <a:xfrm>
            <a:off x="108000" y="3292560"/>
            <a:ext cx="6029280" cy="3386160"/>
          </a:xfrm>
          <a:prstGeom prst="rect">
            <a:avLst/>
          </a:prstGeom>
          <a:ln w="0">
            <a:noFill/>
          </a:ln>
        </p:spPr>
      </p:pic>
      <p:sp>
        <p:nvSpPr>
          <p:cNvPr id="328" name="圆角矩形标注 2"/>
          <p:cNvSpPr/>
          <p:nvPr/>
        </p:nvSpPr>
        <p:spPr>
          <a:xfrm>
            <a:off x="6880320" y="1576440"/>
            <a:ext cx="1560240" cy="4645080"/>
          </a:xfrm>
          <a:prstGeom prst="wedgeRoundRectCallout">
            <a:avLst>
              <a:gd name="adj1" fmla="val -109944"/>
              <a:gd name="adj2" fmla="val -59402"/>
              <a:gd name="adj3" fmla="val 16667"/>
            </a:avLst>
          </a:prstGeom>
          <a:solidFill>
            <a:srgbClr val="a67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不可数名词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20760" y="282600"/>
            <a:ext cx="8686800" cy="63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◆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Please put a piece of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ice on the fish.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Arial"/>
              </a:rPr>
              <a:t>请在鱼身上放一块冰。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0" name="图片 1" descr="u=2797211625,285248441&amp;fm=21&amp;gp=0[1]"/>
          <p:cNvPicPr/>
          <p:nvPr/>
        </p:nvPicPr>
        <p:blipFill>
          <a:blip r:embed="rId1"/>
          <a:stretch/>
        </p:blipFill>
        <p:spPr>
          <a:xfrm>
            <a:off x="612720" y="3376440"/>
            <a:ext cx="74883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65240" y="337680"/>
            <a:ext cx="8818560" cy="60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◆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The boy eats two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strawberry</a:t>
            </a:r>
            <a:r>
              <a:rPr b="1" lang="zh-CN" sz="5400" spc="-1" strike="noStrike" u="sng">
                <a:solidFill>
                  <a:srgbClr val="002060"/>
                </a:solidFill>
                <a:uFillTx/>
                <a:latin typeface="Arial"/>
              </a:rPr>
              <a:t> ices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every day.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7030a0"/>
                </a:solidFill>
                <a:latin typeface="Arial"/>
              </a:rPr>
              <a:t>这个男孩每天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7030a0"/>
                </a:solidFill>
                <a:latin typeface="Arial"/>
              </a:rPr>
              <a:t>吃两份草莓冰。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2" name="椭圆形标注 1"/>
          <p:cNvSpPr/>
          <p:nvPr/>
        </p:nvSpPr>
        <p:spPr>
          <a:xfrm>
            <a:off x="6445080" y="2421000"/>
            <a:ext cx="2098800" cy="4027320"/>
          </a:xfrm>
          <a:prstGeom prst="wedgeEllipseCallout">
            <a:avLst>
              <a:gd name="adj1" fmla="val -146064"/>
              <a:gd name="adj2" fmla="val -56574"/>
            </a:avLst>
          </a:prstGeom>
          <a:solidFill>
            <a:srgbClr val="a67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可数名词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3" name="图片 2" descr="u=2386293747,434129662&amp;fm=21&amp;gp=0[1]"/>
          <p:cNvPicPr/>
          <p:nvPr/>
        </p:nvPicPr>
        <p:blipFill>
          <a:blip r:embed="rId1"/>
          <a:stretch/>
        </p:blipFill>
        <p:spPr>
          <a:xfrm>
            <a:off x="324000" y="4365720"/>
            <a:ext cx="5048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4880" y="360360"/>
            <a:ext cx="70023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773bc8"/>
                </a:solidFill>
                <a:latin typeface="Arial"/>
              </a:rPr>
              <a:t>【学以致用】</a:t>
            </a:r>
            <a:r>
              <a:rPr b="1" lang="zh-CN" sz="2900" spc="-1" strike="noStrike">
                <a:solidFill>
                  <a:srgbClr val="773bc8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54080" y="964800"/>
            <a:ext cx="891216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The ice ______ (be) thick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enough(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足够厚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) for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skating now.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解析：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6" name="文本框 1"/>
          <p:cNvSpPr/>
          <p:nvPr/>
        </p:nvSpPr>
        <p:spPr>
          <a:xfrm>
            <a:off x="3708360" y="620640"/>
            <a:ext cx="917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微软雅黑"/>
              </a:rPr>
              <a:t>is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7" name="文本框 2"/>
          <p:cNvSpPr/>
          <p:nvPr/>
        </p:nvSpPr>
        <p:spPr>
          <a:xfrm>
            <a:off x="2911320" y="3718080"/>
            <a:ext cx="343872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微软雅黑"/>
              </a:rPr>
              <a:t>ice</a:t>
            </a:r>
            <a:r>
              <a:rPr b="1" lang="zh-CN" sz="4400" spc="-1" strike="noStrike">
                <a:solidFill>
                  <a:srgbClr val="7030a0"/>
                </a:solidFill>
                <a:latin typeface="Arial"/>
                <a:ea typeface="微软雅黑"/>
              </a:rPr>
              <a:t>是不可数名词，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Arial"/>
                <a:ea typeface="微软雅黑"/>
              </a:rPr>
              <a:t>系动词用单三式。</a:t>
            </a:r>
            <a:r>
              <a:rPr b="0" lang="zh-CN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 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83880" y="740880"/>
            <a:ext cx="8940600" cy="60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3.Don</a:t>
            </a: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’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t forget your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scarves ,hats and gloves . 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f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orget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动词，意为“忘记”，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常用于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forget sth .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forget</a:t>
            </a:r>
            <a:r>
              <a:rPr b="1" lang="en-US" sz="4800" spc="-1" strike="noStrike" u="sng">
                <a:solidFill>
                  <a:srgbClr val="002060"/>
                </a:solidFill>
                <a:uFillTx/>
                <a:latin typeface="Arial"/>
              </a:rPr>
              <a:t> to do</a:t>
            </a: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 / forget </a:t>
            </a:r>
            <a:r>
              <a:rPr b="1" lang="en-US" sz="4800" spc="-1" strike="noStrike" u="sng">
                <a:solidFill>
                  <a:srgbClr val="002060"/>
                </a:solidFill>
                <a:uFillTx/>
                <a:latin typeface="Arial"/>
              </a:rPr>
              <a:t>doing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9" name="圆角矩形标注 1"/>
          <p:cNvSpPr/>
          <p:nvPr/>
        </p:nvSpPr>
        <p:spPr>
          <a:xfrm>
            <a:off x="755640" y="5445000"/>
            <a:ext cx="3778200" cy="987480"/>
          </a:xfrm>
          <a:prstGeom prst="wedgeRoundRectCallout">
            <a:avLst>
              <a:gd name="adj1" fmla="val 5990"/>
              <a:gd name="adj2" fmla="val -94685"/>
              <a:gd name="adj3" fmla="val 16667"/>
            </a:avLst>
          </a:prstGeom>
          <a:solidFill>
            <a:srgbClr val="a67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还没有做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0" name="圆角矩形标注 2"/>
          <p:cNvSpPr/>
          <p:nvPr/>
        </p:nvSpPr>
        <p:spPr>
          <a:xfrm>
            <a:off x="4865760" y="5349960"/>
            <a:ext cx="3875040" cy="1069920"/>
          </a:xfrm>
          <a:prstGeom prst="wedgeRoundRectCallout">
            <a:avLst>
              <a:gd name="adj1" fmla="val -365"/>
              <a:gd name="adj2" fmla="val -79115"/>
              <a:gd name="adj3" fmla="val 16667"/>
            </a:avLst>
          </a:prstGeom>
          <a:solidFill>
            <a:srgbClr val="a67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经做过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4880" y="360360"/>
            <a:ext cx="70023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73bc8"/>
                </a:solidFill>
                <a:latin typeface="Arial"/>
              </a:rPr>
              <a:t>即学即练</a:t>
            </a:r>
            <a:endParaRPr b="0" lang="en-US" sz="48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66320" y="1023480"/>
            <a:ext cx="8829720" cy="57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---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Don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’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t forget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＿＿＿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your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homework.John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---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Ok.I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’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ll do it right now.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A.doing          B.do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C.to do           D.does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3" name="六角星 1"/>
          <p:cNvSpPr/>
          <p:nvPr/>
        </p:nvSpPr>
        <p:spPr>
          <a:xfrm>
            <a:off x="2987640" y="4941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7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399" y="228600"/>
                </a:lnTo>
                <a:lnTo>
                  <a:pt x="762004" y="457200"/>
                </a:lnTo>
                <a:lnTo>
                  <a:pt x="914399" y="685800"/>
                </a:lnTo>
                <a:lnTo>
                  <a:pt x="609602" y="685803"/>
                </a:lnTo>
                <a:lnTo>
                  <a:pt x="457200" y="914400"/>
                </a:lnTo>
                <a:lnTo>
                  <a:pt x="304797" y="685803"/>
                </a:lnTo>
                <a:lnTo>
                  <a:pt x="0" y="685800"/>
                </a:lnTo>
                <a:lnTo>
                  <a:pt x="152395" y="457200"/>
                </a:lnTo>
                <a:close/>
              </a:path>
            </a:pathLst>
          </a:custGeom>
          <a:solidFill>
            <a:srgbClr val="fb69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65240" y="255600"/>
            <a:ext cx="8805600" cy="64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3.hill n.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山丘；小山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◆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Start your day on the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ski hills or go ice skating.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Arial"/>
              </a:rPr>
              <a:t>在滑雪山或去滑冰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Arial"/>
              </a:rPr>
              <a:t>开始你的一天。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45" name="图片 1" descr="u=719866311,4238027578&amp;fm=21&amp;gp=0[1]"/>
          <p:cNvPicPr/>
          <p:nvPr/>
        </p:nvPicPr>
        <p:blipFill>
          <a:blip r:embed="rId1"/>
          <a:stretch/>
        </p:blipFill>
        <p:spPr>
          <a:xfrm>
            <a:off x="6156360" y="4232160"/>
            <a:ext cx="2568600" cy="244656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2" descr="u=482970382,1926852849&amp;fm=21&amp;gp=0[1]"/>
          <p:cNvPicPr/>
          <p:nvPr/>
        </p:nvPicPr>
        <p:blipFill>
          <a:blip r:embed="rId2"/>
          <a:stretch/>
        </p:blipFill>
        <p:spPr>
          <a:xfrm>
            <a:off x="468360" y="5086440"/>
            <a:ext cx="48211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202680" y="609480"/>
            <a:ext cx="8759880" cy="605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◆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There are lots of sheep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on the hill.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7030a0"/>
                </a:solidFill>
                <a:latin typeface="Arial"/>
              </a:rPr>
              <a:t>山上有很多绵羊。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48" name="图片 1" descr="u=2476070568,2415359889&amp;fm=21&amp;gp=0[1]"/>
          <p:cNvPicPr/>
          <p:nvPr/>
        </p:nvPicPr>
        <p:blipFill>
          <a:blip r:embed="rId1"/>
          <a:stretch/>
        </p:blipFill>
        <p:spPr>
          <a:xfrm>
            <a:off x="720720" y="3919680"/>
            <a:ext cx="7826400" cy="26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4880" y="360360"/>
            <a:ext cx="70023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73bc8"/>
                </a:solidFill>
                <a:latin typeface="Arial"/>
              </a:rPr>
              <a:t>教学目标：</a:t>
            </a:r>
            <a:endParaRPr b="0" lang="en-US" sz="48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98000" y="987120"/>
            <a:ext cx="881244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掌握单词    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research,website,hill,ice,clear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让学生了解如何在网上查阅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天气信息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让学生学习如何讲述自己上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网查阅天气信息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87" name="图片 1" descr="office6\wpsassist\cache\A000220150319F14PPIC"/>
          <p:cNvPicPr/>
          <p:nvPr/>
        </p:nvPicPr>
        <p:blipFill>
          <a:blip r:embed="rId1"/>
          <a:stretch/>
        </p:blipFill>
        <p:spPr>
          <a:xfrm>
            <a:off x="6948360" y="404640"/>
            <a:ext cx="13543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4880" y="360360"/>
            <a:ext cx="70023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73bc8"/>
                </a:solidFill>
                <a:latin typeface="Arial"/>
              </a:rPr>
              <a:t>hill</a:t>
            </a:r>
            <a:r>
              <a:rPr b="1" lang="zh-CN" sz="4000" spc="-1" strike="noStrike">
                <a:solidFill>
                  <a:srgbClr val="773bc8"/>
                </a:solidFill>
                <a:latin typeface="Arial"/>
              </a:rPr>
              <a:t>与</a:t>
            </a:r>
            <a:r>
              <a:rPr b="1" lang="zh-CN" sz="4000" spc="-1" strike="noStrike">
                <a:solidFill>
                  <a:srgbClr val="773bc8"/>
                </a:solidFill>
                <a:latin typeface="Arial"/>
              </a:rPr>
              <a:t>mountain</a:t>
            </a:r>
            <a:r>
              <a:rPr b="1" lang="zh-CN" sz="4000" spc="-1" strike="noStrike">
                <a:solidFill>
                  <a:srgbClr val="773bc8"/>
                </a:solidFill>
                <a:latin typeface="Arial"/>
              </a:rPr>
              <a:t>的用法辨析</a:t>
            </a:r>
            <a:endParaRPr b="0" lang="en-US" sz="40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6200" y="988560"/>
            <a:ext cx="8923680" cy="56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hill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和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mountain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都有“山”的意思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但其类型及范围不同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(1)hill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是指比较低矮的小山、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山丘。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(2)mountain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是指高山、大山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通常指比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hill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大或陡峭的高山。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65240" y="221760"/>
            <a:ext cx="8759520" cy="64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◆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Qomolangma is the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highest mountain in the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world.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珠穆朗玛峰是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世界上最高的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山脉。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52" name="图片 1" descr="u=234506816,1755413672&amp;fm=21&amp;gp=0[1]"/>
          <p:cNvPicPr/>
          <p:nvPr/>
        </p:nvPicPr>
        <p:blipFill>
          <a:blip r:embed="rId1"/>
          <a:stretch/>
        </p:blipFill>
        <p:spPr>
          <a:xfrm>
            <a:off x="5302080" y="2208240"/>
            <a:ext cx="34750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17000" y="293760"/>
            <a:ext cx="8890200" cy="63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72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.In the evening,you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72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can join us inside for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72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dinner. 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72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join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动词，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72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意为“加入”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54" name="图片 1" descr="u=176902707,1181691535&amp;fm=21&amp;gp=0[1]"/>
          <p:cNvPicPr/>
          <p:nvPr/>
        </p:nvPicPr>
        <p:blipFill>
          <a:blip r:embed="rId1"/>
          <a:stretch/>
        </p:blipFill>
        <p:spPr>
          <a:xfrm>
            <a:off x="5200560" y="2457360"/>
            <a:ext cx="349560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76040" y="280800"/>
            <a:ext cx="8771040" cy="61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join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与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take part in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的区别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</a:rPr>
              <a:t>join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指参加某一党派，团体，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组织并成为其中一员。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6" name="文本框 1"/>
          <p:cNvSpPr/>
          <p:nvPr/>
        </p:nvSpPr>
        <p:spPr>
          <a:xfrm>
            <a:off x="1187640" y="2997360"/>
            <a:ext cx="4665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  <a:ea typeface="微软雅黑"/>
              </a:rPr>
              <a:t>join the party    </a:t>
            </a:r>
            <a:r>
              <a:rPr b="1" lang="zh-CN" sz="4000" spc="-1" strike="noStrike">
                <a:solidFill>
                  <a:srgbClr val="7030a0"/>
                </a:solidFill>
                <a:latin typeface="Arial"/>
                <a:ea typeface="微软雅黑"/>
              </a:rPr>
              <a:t>入党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7" name="文本框 2"/>
          <p:cNvSpPr/>
          <p:nvPr/>
        </p:nvSpPr>
        <p:spPr>
          <a:xfrm>
            <a:off x="1189440" y="3718080"/>
            <a:ext cx="4606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  <a:ea typeface="微软雅黑"/>
              </a:rPr>
              <a:t>jion the league </a:t>
            </a:r>
            <a:r>
              <a:rPr b="1" lang="zh-CN" sz="4000" spc="-1" strike="noStrike">
                <a:solidFill>
                  <a:srgbClr val="7030a0"/>
                </a:solidFill>
                <a:latin typeface="Arial"/>
                <a:ea typeface="微软雅黑"/>
              </a:rPr>
              <a:t>入团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8" name="文本框 3"/>
          <p:cNvSpPr/>
          <p:nvPr/>
        </p:nvSpPr>
        <p:spPr>
          <a:xfrm>
            <a:off x="1187280" y="4365720"/>
            <a:ext cx="4496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  <a:ea typeface="微软雅黑"/>
              </a:rPr>
              <a:t>jion the army   </a:t>
            </a:r>
            <a:r>
              <a:rPr b="1" lang="zh-CN" sz="4000" spc="-1" strike="noStrike">
                <a:solidFill>
                  <a:srgbClr val="7030a0"/>
                </a:solidFill>
                <a:latin typeface="Arial"/>
                <a:ea typeface="微软雅黑"/>
              </a:rPr>
              <a:t>参军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9" name="文本框 4"/>
          <p:cNvSpPr/>
          <p:nvPr/>
        </p:nvSpPr>
        <p:spPr>
          <a:xfrm>
            <a:off x="1492200" y="5086440"/>
            <a:ext cx="5381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  <a:ea typeface="微软雅黑"/>
              </a:rPr>
              <a:t>jion the club    </a:t>
            </a:r>
            <a:r>
              <a:rPr b="1" lang="zh-CN" sz="4000" spc="-1" strike="noStrike">
                <a:solidFill>
                  <a:srgbClr val="7030a0"/>
                </a:solidFill>
                <a:latin typeface="Arial"/>
                <a:ea typeface="微软雅黑"/>
              </a:rPr>
              <a:t>加入俱乐部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18800" y="501120"/>
            <a:ext cx="8901000" cy="59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72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Arial"/>
              </a:rPr>
              <a:t>take part in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指参加某项活动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72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并在其中起积极作用。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72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文本框 5"/>
          <p:cNvSpPr/>
          <p:nvPr/>
        </p:nvSpPr>
        <p:spPr>
          <a:xfrm>
            <a:off x="614880" y="2492280"/>
            <a:ext cx="7710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微软雅黑"/>
              </a:rPr>
              <a:t>take part in the sports meeting 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Arial"/>
                <a:ea typeface="微软雅黑"/>
              </a:rPr>
              <a:t>参加运动会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   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62" name="图片 6" descr="u=2617945923,1627373930&amp;fm=21&amp;gp=0[1]"/>
          <p:cNvPicPr/>
          <p:nvPr/>
        </p:nvPicPr>
        <p:blipFill>
          <a:blip r:embed="rId1"/>
          <a:stretch/>
        </p:blipFill>
        <p:spPr>
          <a:xfrm>
            <a:off x="3564000" y="3860640"/>
            <a:ext cx="492912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4880" y="360360"/>
            <a:ext cx="70023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73bc8"/>
                </a:solidFill>
                <a:latin typeface="Arial"/>
              </a:rPr>
              <a:t>【学以致用】</a:t>
            </a:r>
            <a:r>
              <a:rPr b="1" lang="zh-CN" sz="2900" spc="-1" strike="noStrike">
                <a:solidFill>
                  <a:srgbClr val="773bc8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92240" y="965160"/>
            <a:ext cx="8756640" cy="57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576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1.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你甚至可以和家人一起堆雪人。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576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You can even get the family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576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together and ______ _____ 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576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______       . 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5" name="文本框 1"/>
          <p:cNvSpPr/>
          <p:nvPr/>
        </p:nvSpPr>
        <p:spPr>
          <a:xfrm>
            <a:off x="4830840" y="2421000"/>
            <a:ext cx="33274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make    a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6" name="文本框 2"/>
          <p:cNvSpPr/>
          <p:nvPr/>
        </p:nvSpPr>
        <p:spPr>
          <a:xfrm>
            <a:off x="899280" y="3286080"/>
            <a:ext cx="349380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snowman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 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67" name="图片 3" descr="u=2412148659,4046774035&amp;fm=21&amp;gp=0[1]"/>
          <p:cNvPicPr/>
          <p:nvPr/>
        </p:nvPicPr>
        <p:blipFill>
          <a:blip r:embed="rId1"/>
          <a:stretch/>
        </p:blipFill>
        <p:spPr>
          <a:xfrm>
            <a:off x="4716360" y="4429080"/>
            <a:ext cx="4040280" cy="232272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4" descr="u=517128101,3702163924&amp;fm=21&amp;gp=0[1]"/>
          <p:cNvPicPr/>
          <p:nvPr/>
        </p:nvPicPr>
        <p:blipFill>
          <a:blip r:embed="rId2"/>
          <a:stretch/>
        </p:blipFill>
        <p:spPr>
          <a:xfrm>
            <a:off x="324000" y="4797360"/>
            <a:ext cx="3987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54080" y="267840"/>
            <a:ext cx="8794800" cy="64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2.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在温暖的火旁享受一个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晴朗、寒冷的夜晚。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Enjoy a ______, cold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night ______ a warm fire.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0" name="文本框 1"/>
          <p:cNvSpPr/>
          <p:nvPr/>
        </p:nvSpPr>
        <p:spPr>
          <a:xfrm>
            <a:off x="3490920" y="1844640"/>
            <a:ext cx="2162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微软雅黑"/>
              </a:rPr>
              <a:t>clear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  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1" name="文本框 2"/>
          <p:cNvSpPr/>
          <p:nvPr/>
        </p:nvSpPr>
        <p:spPr>
          <a:xfrm>
            <a:off x="2556360" y="2852640"/>
            <a:ext cx="2905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微软雅黑"/>
              </a:rPr>
              <a:t>beside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72" name="图片 3" descr="u=2772606909,2807640799&amp;fm=21&amp;gp=0[1]"/>
          <p:cNvPicPr/>
          <p:nvPr/>
        </p:nvPicPr>
        <p:blipFill>
          <a:blip r:embed="rId1"/>
          <a:stretch/>
        </p:blipFill>
        <p:spPr>
          <a:xfrm>
            <a:off x="1979640" y="4292640"/>
            <a:ext cx="47577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63160" y="328680"/>
            <a:ext cx="8661240" cy="63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72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3.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对于冬季我有点迫不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72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及待了。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72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I ______ ______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72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______ winter. 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4" name="文本框 1"/>
          <p:cNvSpPr/>
          <p:nvPr/>
        </p:nvSpPr>
        <p:spPr>
          <a:xfrm>
            <a:off x="1907640" y="2060640"/>
            <a:ext cx="541728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Arial"/>
                <a:ea typeface="微软雅黑"/>
              </a:rPr>
              <a:t>can't    wait  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5" name="文本框 2"/>
          <p:cNvSpPr/>
          <p:nvPr/>
        </p:nvSpPr>
        <p:spPr>
          <a:xfrm>
            <a:off x="1908360" y="3141720"/>
            <a:ext cx="163152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Arial"/>
                <a:ea typeface="微软雅黑"/>
              </a:rPr>
              <a:t>for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76" name="图片 3" descr="u=2680565370,3606494445&amp;fm=21&amp;gp=0[1]"/>
          <p:cNvPicPr/>
          <p:nvPr/>
        </p:nvPicPr>
        <p:blipFill>
          <a:blip r:embed="rId1"/>
          <a:stretch/>
        </p:blipFill>
        <p:spPr>
          <a:xfrm>
            <a:off x="1403280" y="4653000"/>
            <a:ext cx="60642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155160" y="488880"/>
            <a:ext cx="8852040" cy="59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4.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我将享受一段美好的时光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!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I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'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m ______ ______ have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a  great  time!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文本框 1"/>
          <p:cNvSpPr/>
          <p:nvPr/>
        </p:nvSpPr>
        <p:spPr>
          <a:xfrm>
            <a:off x="2051640" y="981000"/>
            <a:ext cx="4130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微软雅黑"/>
              </a:rPr>
              <a:t>going     to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79" name="图片 2" descr="u=3292285678,179243460&amp;fm=21&amp;gp=0[1]"/>
          <p:cNvPicPr/>
          <p:nvPr/>
        </p:nvPicPr>
        <p:blipFill>
          <a:blip r:embed="rId1"/>
          <a:stretch/>
        </p:blipFill>
        <p:spPr>
          <a:xfrm>
            <a:off x="539640" y="3718080"/>
            <a:ext cx="3740400" cy="273996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3" descr="u=1955014424,2703535546&amp;fm=21&amp;gp=0[1]"/>
          <p:cNvPicPr/>
          <p:nvPr/>
        </p:nvPicPr>
        <p:blipFill>
          <a:blip r:embed="rId2"/>
          <a:stretch/>
        </p:blipFill>
        <p:spPr>
          <a:xfrm>
            <a:off x="4716360" y="3645000"/>
            <a:ext cx="3675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4880" y="360360"/>
            <a:ext cx="70023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73bc8"/>
                </a:solidFill>
                <a:latin typeface="Arial"/>
              </a:rPr>
              <a:t>选词并用其适当形式填空</a:t>
            </a:r>
            <a:endParaRPr b="0" lang="en-US" sz="48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29960" y="987120"/>
            <a:ext cx="887724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0c0"/>
                </a:solidFill>
                <a:latin typeface="Arial"/>
              </a:rPr>
              <a:t>snowman, scarf, amaze,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70c0"/>
                </a:solidFill>
                <a:latin typeface="Arial"/>
              </a:rPr>
              <a:t>winter, clearly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1. ______ in Heilongjiang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are very cold.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文本框 1"/>
          <p:cNvSpPr/>
          <p:nvPr/>
        </p:nvSpPr>
        <p:spPr>
          <a:xfrm>
            <a:off x="1330200" y="2781360"/>
            <a:ext cx="2296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  <a:ea typeface="微软雅黑"/>
              </a:rPr>
              <a:t>Winter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84" name="图片 2" descr="u=3612454215,931755680&amp;fm=21&amp;gp=0[1]"/>
          <p:cNvPicPr/>
          <p:nvPr/>
        </p:nvPicPr>
        <p:blipFill>
          <a:blip r:embed="rId1"/>
          <a:stretch/>
        </p:blipFill>
        <p:spPr>
          <a:xfrm>
            <a:off x="709560" y="4943520"/>
            <a:ext cx="76708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4880" y="360360"/>
            <a:ext cx="70023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73bc8"/>
                </a:solidFill>
                <a:latin typeface="Arial"/>
              </a:rPr>
              <a:t>教学重难点：</a:t>
            </a:r>
            <a:endParaRPr b="0" lang="en-US" sz="48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17000" y="1405080"/>
            <a:ext cx="885348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重点单词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山丘，小山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n._______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雪人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n. ________ 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3.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研究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调查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n.&amp; v.________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4.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明亮的，清澈的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__________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文本框 1"/>
          <p:cNvSpPr/>
          <p:nvPr/>
        </p:nvSpPr>
        <p:spPr>
          <a:xfrm>
            <a:off x="4861080" y="1844640"/>
            <a:ext cx="146232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hill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1" name="文本框 2"/>
          <p:cNvSpPr/>
          <p:nvPr/>
        </p:nvSpPr>
        <p:spPr>
          <a:xfrm>
            <a:off x="2845800" y="2637000"/>
            <a:ext cx="358380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snowman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2" name="文本框 3"/>
          <p:cNvSpPr/>
          <p:nvPr/>
        </p:nvSpPr>
        <p:spPr>
          <a:xfrm>
            <a:off x="5869800" y="3573360"/>
            <a:ext cx="34696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research 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3" name="文本框 4"/>
          <p:cNvSpPr/>
          <p:nvPr/>
        </p:nvSpPr>
        <p:spPr>
          <a:xfrm>
            <a:off x="5579280" y="4365720"/>
            <a:ext cx="2273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微软雅黑"/>
              </a:rPr>
              <a:t>clear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94" name="图片 5" descr="u=3481821400,3132705360&amp;fm=21&amp;gp=0[1]"/>
          <p:cNvPicPr/>
          <p:nvPr/>
        </p:nvPicPr>
        <p:blipFill>
          <a:blip r:embed="rId1"/>
          <a:stretch/>
        </p:blipFill>
        <p:spPr>
          <a:xfrm>
            <a:off x="7308720" y="1557360"/>
            <a:ext cx="15717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6080" y="231480"/>
            <a:ext cx="8950320" cy="64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2. It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'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s snowing.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Let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'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s make a   ______   .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3. Little Tom bought two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nice ______ for his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mother.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6" name="文本框 1"/>
          <p:cNvSpPr/>
          <p:nvPr/>
        </p:nvSpPr>
        <p:spPr>
          <a:xfrm>
            <a:off x="5364720" y="909720"/>
            <a:ext cx="363384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snowman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7" name="文本框 2"/>
          <p:cNvSpPr/>
          <p:nvPr/>
        </p:nvSpPr>
        <p:spPr>
          <a:xfrm>
            <a:off x="2773440" y="2852640"/>
            <a:ext cx="263160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scarfs 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88" name="图片 3" descr="u=3202626342,2876211175&amp;fm=116&amp;gp=0[1]"/>
          <p:cNvPicPr/>
          <p:nvPr/>
        </p:nvPicPr>
        <p:blipFill>
          <a:blip r:embed="rId1"/>
          <a:stretch/>
        </p:blipFill>
        <p:spPr>
          <a:xfrm>
            <a:off x="5796000" y="4581360"/>
            <a:ext cx="2179440" cy="2095560"/>
          </a:xfrm>
          <a:prstGeom prst="rect">
            <a:avLst/>
          </a:prstGeom>
          <a:ln w="0">
            <a:noFill/>
          </a:ln>
        </p:spPr>
      </p:pic>
      <p:pic>
        <p:nvPicPr>
          <p:cNvPr id="389" name="图片 4" descr="9530669_092454691000_2[1]"/>
          <p:cNvPicPr/>
          <p:nvPr/>
        </p:nvPicPr>
        <p:blipFill>
          <a:blip r:embed="rId2"/>
          <a:stretch/>
        </p:blipFill>
        <p:spPr>
          <a:xfrm>
            <a:off x="971640" y="4941720"/>
            <a:ext cx="38322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64880" y="194760"/>
            <a:ext cx="8831160" cy="65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4. —We can have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snowball fights in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winter here.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  —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It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'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s  ______    !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I can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'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t wait for winter.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ts val="6474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5. What a ______ river! 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1" name="文本框 1"/>
          <p:cNvSpPr/>
          <p:nvPr/>
        </p:nvSpPr>
        <p:spPr>
          <a:xfrm>
            <a:off x="3132000" y="2708280"/>
            <a:ext cx="3379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微软雅黑"/>
              </a:rPr>
              <a:t>amazing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 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2" name="文本框 2"/>
          <p:cNvSpPr/>
          <p:nvPr/>
        </p:nvSpPr>
        <p:spPr>
          <a:xfrm>
            <a:off x="3851280" y="4726080"/>
            <a:ext cx="2223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微软雅黑"/>
              </a:rPr>
              <a:t>clear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图片 2" descr="26N58PICZig_1024[1]"/>
          <p:cNvPicPr/>
          <p:nvPr/>
        </p:nvPicPr>
        <p:blipFill>
          <a:blip r:embed="rId1"/>
          <a:stretch/>
        </p:blipFill>
        <p:spPr>
          <a:xfrm>
            <a:off x="0" y="1440"/>
            <a:ext cx="9186840" cy="6865920"/>
          </a:xfrm>
          <a:prstGeom prst="rect">
            <a:avLst/>
          </a:prstGeom>
          <a:ln w="0">
            <a:noFill/>
          </a:ln>
        </p:spPr>
      </p:pic>
      <p:pic>
        <p:nvPicPr>
          <p:cNvPr id="394" name="矩形 3" descr=""/>
          <p:cNvPicPr/>
          <p:nvPr/>
        </p:nvPicPr>
        <p:blipFill>
          <a:blip r:embed="rId2"/>
          <a:stretch/>
        </p:blipFill>
        <p:spPr>
          <a:xfrm>
            <a:off x="2593800" y="5315040"/>
            <a:ext cx="416088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4880" y="360360"/>
            <a:ext cx="70023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73bc8"/>
                </a:solidFill>
                <a:latin typeface="Arial"/>
              </a:rPr>
              <a:t>重点短语：</a:t>
            </a:r>
            <a:endParaRPr b="0" lang="en-US" sz="44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29960" y="917280"/>
            <a:ext cx="8864280" cy="54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(1)talk about__________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(2)have lunch__________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(3) make a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snowman__________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(4)wait for__________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文本框 1"/>
          <p:cNvSpPr/>
          <p:nvPr/>
        </p:nvSpPr>
        <p:spPr>
          <a:xfrm>
            <a:off x="5475600" y="692280"/>
            <a:ext cx="1229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微软雅黑"/>
              </a:rPr>
              <a:t>讨论  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8" name="文本框 2"/>
          <p:cNvSpPr/>
          <p:nvPr/>
        </p:nvSpPr>
        <p:spPr>
          <a:xfrm>
            <a:off x="5736600" y="1628640"/>
            <a:ext cx="1415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微软雅黑"/>
              </a:rPr>
              <a:t>吃午饭</a:t>
            </a:r>
            <a:r>
              <a:rPr b="0" lang="zh-CN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 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9" name="文本框 3"/>
          <p:cNvSpPr/>
          <p:nvPr/>
        </p:nvSpPr>
        <p:spPr>
          <a:xfrm>
            <a:off x="5086440" y="3573360"/>
            <a:ext cx="1369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微软雅黑"/>
              </a:rPr>
              <a:t>堆雪人</a:t>
            </a:r>
            <a:r>
              <a:rPr b="0" lang="zh-CN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" name="文本框 4"/>
          <p:cNvSpPr/>
          <p:nvPr/>
        </p:nvSpPr>
        <p:spPr>
          <a:xfrm>
            <a:off x="4752360" y="4581360"/>
            <a:ext cx="11026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微软雅黑"/>
              </a:rPr>
              <a:t>等待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237960" y="649440"/>
            <a:ext cx="872352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（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）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have a great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time__________  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（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6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）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forget to do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sth__________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（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7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）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go skiing !_________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（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8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）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a lot of__________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" name="文本框 1"/>
          <p:cNvSpPr/>
          <p:nvPr/>
        </p:nvSpPr>
        <p:spPr>
          <a:xfrm>
            <a:off x="3877200" y="1270080"/>
            <a:ext cx="17582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微软雅黑"/>
              </a:rPr>
              <a:t>过得快乐 </a:t>
            </a:r>
            <a:r>
              <a:rPr b="0" lang="zh-CN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3" name="文本框 2"/>
          <p:cNvSpPr/>
          <p:nvPr/>
        </p:nvSpPr>
        <p:spPr>
          <a:xfrm>
            <a:off x="3554280" y="3068640"/>
            <a:ext cx="20476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微软雅黑"/>
              </a:rPr>
              <a:t>忘记做某事 </a:t>
            </a:r>
            <a:r>
              <a:rPr b="0" lang="zh-CN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4" name="文本框 3"/>
          <p:cNvSpPr/>
          <p:nvPr/>
        </p:nvSpPr>
        <p:spPr>
          <a:xfrm>
            <a:off x="5416200" y="3933720"/>
            <a:ext cx="1278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微软雅黑"/>
              </a:rPr>
              <a:t>去滑雪</a:t>
            </a:r>
            <a:r>
              <a:rPr b="0" lang="zh-CN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4443120" y="4869000"/>
            <a:ext cx="10418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微软雅黑"/>
              </a:rPr>
              <a:t>许多 </a:t>
            </a:r>
            <a:r>
              <a:rPr b="0" lang="zh-CN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06" name="图片 5" descr="u=596553377,3517315156&amp;fm=21&amp;gp=0[1]"/>
          <p:cNvPicPr/>
          <p:nvPr/>
        </p:nvPicPr>
        <p:blipFill>
          <a:blip r:embed="rId1"/>
          <a:stretch/>
        </p:blipFill>
        <p:spPr>
          <a:xfrm>
            <a:off x="6732720" y="620640"/>
            <a:ext cx="22287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51920" y="303120"/>
            <a:ext cx="8807400" cy="610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( 9 ) be ready to do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sth___________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(10) hope to do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sth_______________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" name="文本框 1"/>
          <p:cNvSpPr/>
          <p:nvPr/>
        </p:nvSpPr>
        <p:spPr>
          <a:xfrm>
            <a:off x="3553200" y="981000"/>
            <a:ext cx="19944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微软雅黑"/>
              </a:rPr>
              <a:t>准备做某事</a:t>
            </a:r>
            <a:r>
              <a:rPr b="0" lang="zh-CN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 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9" name="文本框 2"/>
          <p:cNvSpPr/>
          <p:nvPr/>
        </p:nvSpPr>
        <p:spPr>
          <a:xfrm>
            <a:off x="3484800" y="2708280"/>
            <a:ext cx="20934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微软雅黑"/>
              </a:rPr>
              <a:t>希望做某事 </a:t>
            </a:r>
            <a:r>
              <a:rPr b="0" lang="zh-CN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10" name="图片 3" descr="u=3132759923,2978287717&amp;fm=21&amp;gp=0[1]"/>
          <p:cNvPicPr/>
          <p:nvPr/>
        </p:nvPicPr>
        <p:blipFill>
          <a:blip r:embed="rId1"/>
          <a:stretch/>
        </p:blipFill>
        <p:spPr>
          <a:xfrm>
            <a:off x="468360" y="4149720"/>
            <a:ext cx="78501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4880" y="360360"/>
            <a:ext cx="70023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73bc8"/>
                </a:solidFill>
                <a:latin typeface="Arial"/>
              </a:rPr>
              <a:t>【探究总结】</a:t>
            </a:r>
            <a:endParaRPr b="0" lang="en-US" sz="48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42560" y="987120"/>
            <a:ext cx="8805960" cy="56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1.research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的用法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(1)research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可与不定冠词连用，也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可以用复数形式，但通常不与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many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或数字连用。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(2)research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后常跟介词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on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into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或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f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or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do some research 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做研究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151920" y="544320"/>
            <a:ext cx="880740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他对这一疾病的起因做了很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多研究。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He has done______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_______ on the cause of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2060"/>
                </a:solidFill>
                <a:latin typeface="Arial"/>
              </a:rPr>
              <a:t>this disease.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" name="文本框 1"/>
          <p:cNvSpPr/>
          <p:nvPr/>
        </p:nvSpPr>
        <p:spPr>
          <a:xfrm>
            <a:off x="5148360" y="2276640"/>
            <a:ext cx="212220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some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 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5" name="文本框 2"/>
          <p:cNvSpPr/>
          <p:nvPr/>
        </p:nvSpPr>
        <p:spPr>
          <a:xfrm>
            <a:off x="468360" y="3068640"/>
            <a:ext cx="3195720" cy="15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微软雅黑"/>
              </a:rPr>
              <a:t>research</a:t>
            </a: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 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16" name="图片 3" descr="office6\wpsassist\cache\A000220150322A18PPIC"/>
          <p:cNvPicPr/>
          <p:nvPr/>
        </p:nvPicPr>
        <p:blipFill>
          <a:blip r:embed="rId1"/>
          <a:stretch/>
        </p:blipFill>
        <p:spPr>
          <a:xfrm>
            <a:off x="5919840" y="4581360"/>
            <a:ext cx="239220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4880" y="360360"/>
            <a:ext cx="70023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773bc8"/>
                </a:solidFill>
                <a:latin typeface="Arial"/>
              </a:rPr>
              <a:t>【学以致用</a:t>
            </a:r>
            <a:r>
              <a:rPr b="1" lang="zh-CN" sz="2900" spc="-1" strike="noStrike">
                <a:solidFill>
                  <a:srgbClr val="773bc8"/>
                </a:solidFill>
                <a:latin typeface="Arial"/>
              </a:rPr>
              <a:t>】 </a:t>
            </a:r>
            <a:endParaRPr b="0" lang="en-US" sz="2900" spc="-1" strike="noStrike">
              <a:solidFill>
                <a:srgbClr val="4f2687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5400" y="971640"/>
            <a:ext cx="8950320" cy="56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①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这是市场调查报告。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Here is ____ ______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67edb"/>
              </a:buClr>
              <a:buSzPct val="7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______   report. 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" name="文本框 1"/>
          <p:cNvSpPr/>
          <p:nvPr/>
        </p:nvSpPr>
        <p:spPr>
          <a:xfrm>
            <a:off x="3417120" y="1773360"/>
            <a:ext cx="4739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微软雅黑"/>
              </a:rPr>
              <a:t>  </a:t>
            </a: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微软雅黑"/>
              </a:rPr>
              <a:t>a    market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 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0" name="文本框 2"/>
          <p:cNvSpPr/>
          <p:nvPr/>
        </p:nvSpPr>
        <p:spPr>
          <a:xfrm>
            <a:off x="539280" y="2852640"/>
            <a:ext cx="3509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微软雅黑"/>
              </a:rPr>
              <a:t>research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 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21" name="图片 3" descr="office6\wpsassist\cache\A000220150318H44PPIC"/>
          <p:cNvPicPr/>
          <p:nvPr/>
        </p:nvPicPr>
        <p:blipFill>
          <a:blip r:embed="rId1"/>
          <a:stretch/>
        </p:blipFill>
        <p:spPr>
          <a:xfrm>
            <a:off x="2124000" y="4581360"/>
            <a:ext cx="46386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2T02:35:15Z</dcterms:created>
  <dc:creator>lenovo</dc:creator>
  <dc:description/>
  <dc:language>en-US</dc:language>
  <cp:lastModifiedBy>Administrator</cp:lastModifiedBy>
  <dcterms:modified xsi:type="dcterms:W3CDTF">2019-01-02T01:19:34Z</dcterms:modified>
  <cp:revision>4</cp:revision>
  <dc:subject/>
  <dc:title>Lesson32 I Can’t Wait for Winter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